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067D-789B-4A84-9AFC-FFD5A0BB405A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7C37-3FB7-4CEE-8CDB-CDEA798B2997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FC6-BA85-40B5-84C4-8A92A80B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3F9-25A4-4CF7-8241-0C8052FF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10D-D4F9-4821-B0F0-FEC07C41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3A9-A170-4134-BB08-BDCBC4C0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A9CE-BE33-4B26-A915-04D152F5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2034-72E5-41BA-A717-406791CE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0809-34AB-4F27-B91D-3FEF6C5D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16E2-0DA3-46E9-9CF6-73F7C40C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D294-0A6C-43B5-810B-FB79C90D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94E8-6FEF-465B-8217-D2BE1AE0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1B3B-232B-4336-9A43-35CDEF37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801-9B32-4A55-9674-10C1D416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1783-D5C8-4EA7-9F0A-28C51BB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B1C1-90D2-44AD-8DC2-D9881106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37A7-A930-4069-AAF5-07604AE6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6C78-1B6B-4CF9-AD8A-4065BA36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0338-056F-40B0-92B2-985DDB45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612-730A-4D56-82F5-67C3073D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90B-E3DD-447E-B8B9-7027D22F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6D1-2A18-4651-8701-F1890BD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153-40E5-4A93-848D-BDF0D9C9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9FD-5D63-46E5-B19A-7957D756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E2E-E098-4D13-8376-5D5D37A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82C-F785-446C-B6E9-C4C1027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A530-C6BE-4AC7-8BDF-4806E92F559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7085-7035-43F4-87D3-9BD4588D6FA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715240" cy="621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QUÍMICA BIOLÓ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1866600" y="531720"/>
            <a:ext cx="506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Cs. BIOLÓ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Prof. en BI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3152"/>
                </a:solidFill>
                <a:latin typeface="Arial Black"/>
              </a:rPr>
              <a:t>Lic. BIOTECN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031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3870000" y="5000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00000"/>
                </a:solidFill>
                <a:latin typeface="Arial Black"/>
              </a:rPr>
              <a:t>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Escudo_UNSL.jpg"/>
          <p:cNvPicPr/>
          <p:nvPr/>
        </p:nvPicPr>
        <p:blipFill>
          <a:blip r:embed="rId2"/>
          <a:stretch/>
        </p:blipFill>
        <p:spPr>
          <a:xfrm>
            <a:off x="0" y="0"/>
            <a:ext cx="1285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6 CuadroTexto"/>
          <p:cNvSpPr/>
          <p:nvPr/>
        </p:nvSpPr>
        <p:spPr>
          <a:xfrm>
            <a:off x="6715080" y="6211800"/>
            <a:ext cx="236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Química Biológica”- Blanco A. y Blanco G., Edic. El Ateneo, 9a Edic. Cap 10 (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Química Biológica”-Lehninger A. L., Edic. Omega- 5ª Edic. (2009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 Esencial en metabolismo y Nutrición”- Cursos Crash de Mosby- Autor: Sarah Benyon-Ed. Harcourt Brace- 1°Ed. (199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lamula.pe/media/uploads/789d4548d685473cae57d136b537bf3a.jpg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6240600"/>
          </a:xfrm>
          <a:prstGeom prst="rect">
            <a:avLst/>
          </a:prstGeom>
          <a:ln w="0">
            <a:noFill/>
          </a:ln>
        </p:spPr>
      </p:pic>
      <p:sp>
        <p:nvSpPr>
          <p:cNvPr id="96" name="3 Rectángulo"/>
          <p:cNvSpPr/>
          <p:nvPr/>
        </p:nvSpPr>
        <p:spPr>
          <a:xfrm>
            <a:off x="214200" y="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LIC. CS. BIOLÓGICAS – PROF. BIOLOGÍA – LIC. BIOTECNOLOGÍA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s-ES_tradnl" sz="1600" spc="-1" strike="noStrike">
                <a:solidFill>
                  <a:srgbClr val="c00000"/>
                </a:solidFill>
                <a:latin typeface="Calibri"/>
              </a:rPr>
              <a:t>                   QCA. B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 Rectángulo"/>
          <p:cNvSpPr/>
          <p:nvPr/>
        </p:nvSpPr>
        <p:spPr>
          <a:xfrm>
            <a:off x="357120" y="285840"/>
            <a:ext cx="8072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PROGRAMA ANALITICO Y/O DE 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CuadroTexto"/>
          <p:cNvSpPr/>
          <p:nvPr/>
        </p:nvSpPr>
        <p:spPr>
          <a:xfrm>
            <a:off x="0" y="571680"/>
            <a:ext cx="907272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0000"/>
                </a:solidFill>
                <a:latin typeface="Calibri"/>
              </a:rPr>
              <a:t>TEMA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mitocondrial. Fosforilación oxidativa. Mitocondrias. Cadena respiratoria. 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ocalización. Balance energético. Desacoplantes: proteínas desacopladoras. Inhibidores. Síntesis de ATP. Hipótesis quimiosmótica.</a:t>
            </a:r>
            <a:br>
              <a:rPr sz="1800"/>
            </a:b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Translocasas. Regulación de la fosforilación oxidativa. Oxidasa alternativa en vegetales. Luciferina-lucifera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Transporte electrónico cloroplástico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s-AR" sz="1800" spc="-1" strike="noStrike">
                <a:solidFill>
                  <a:srgbClr val="000000"/>
                </a:solidFill>
                <a:latin typeface="Calibri"/>
              </a:rPr>
              <a:t>Fotofosforilación y fotosíntesis.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Proceso en plantas superiores. Reacciones luminosas. Captación de la energía luminosa. Cloroplastos y pigmentos. Transporte electrónico cíclico y no cícl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íntesis de ATP por fotofosforil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Similitudes entre fosforilación oxidativa y fotofosfori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Concepto unificador de la teoría quimiosmó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Otros organismos fotosintetiz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Calibri"/>
              </a:rPr>
              <a:t>Otros Sistemas de Transporte de Electrones. </a:t>
            </a:r>
            <a:r>
              <a:rPr b="0" lang="es-AR" sz="1800" spc="-1" strike="noStrike">
                <a:solidFill>
                  <a:srgbClr val="ff0000"/>
                </a:solidFill>
                <a:latin typeface="Calibri"/>
              </a:rPr>
              <a:t>Sistema microsomal de transporte electrónico, Sistema del Citocromo P</a:t>
            </a:r>
            <a:r>
              <a:rPr b="0" lang="es-AR" sz="1800" spc="-1" strike="noStrike" baseline="-25000">
                <a:solidFill>
                  <a:srgbClr val="ff0000"/>
                </a:solidFill>
                <a:latin typeface="Calibr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CuadroTexto"/>
          <p:cNvSpPr/>
          <p:nvPr/>
        </p:nvSpPr>
        <p:spPr>
          <a:xfrm>
            <a:off x="714240" y="1214280"/>
            <a:ext cx="7821720" cy="4909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xisten sistemas de transporte de electrones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stintos de la Caden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rticipan en la síntesis d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ticipan en reacciones de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hidroxilaciones y deshidrogenaciones del sus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ticipan enzimas como las denom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oxigena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CuadroTexto"/>
          <p:cNvSpPr/>
          <p:nvPr/>
        </p:nvSpPr>
        <p:spPr>
          <a:xfrm>
            <a:off x="357120" y="0"/>
            <a:ext cx="842976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00000"/>
                </a:solidFill>
                <a:latin typeface="Arial"/>
              </a:rPr>
              <a:t>OTROS SISTE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00000"/>
                </a:solidFill>
                <a:latin typeface="Arial"/>
              </a:rPr>
              <a:t>DE TRANSPORTE DE ELECTR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85840" y="260280"/>
            <a:ext cx="8715240" cy="882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OXIGEN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14200" y="1214280"/>
            <a:ext cx="8786880" cy="200052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calización: microsomas (Retículo Endoplásmico),  peroxisomas, mitocond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asociados a la producción d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san 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mo sustrato, consumen 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971640" y="3645000"/>
            <a:ext cx="2305080" cy="1972440"/>
            <a:chOff x="971640" y="3645000"/>
            <a:chExt cx="2305080" cy="1972440"/>
          </a:xfrm>
        </p:grpSpPr>
        <p:sp>
          <p:nvSpPr>
            <p:cNvPr id="104" name="Text Box 7"/>
            <p:cNvSpPr/>
            <p:nvPr/>
          </p:nvSpPr>
          <p:spPr>
            <a:xfrm>
              <a:off x="971640" y="3645000"/>
              <a:ext cx="230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D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971640" y="5157720"/>
              <a:ext cx="2232000" cy="459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Calibri"/>
                </a:rPr>
                <a:t>OXIGENA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"/>
          <p:cNvGrpSpPr/>
          <p:nvPr/>
        </p:nvGrpSpPr>
        <p:grpSpPr>
          <a:xfrm>
            <a:off x="3492360" y="3500280"/>
            <a:ext cx="4392720" cy="654840"/>
            <a:chOff x="3492360" y="3500280"/>
            <a:chExt cx="4392720" cy="654840"/>
          </a:xfrm>
        </p:grpSpPr>
        <p:sp>
          <p:nvSpPr>
            <p:cNvPr id="107" name="Line 10"/>
            <p:cNvSpPr/>
            <p:nvPr/>
          </p:nvSpPr>
          <p:spPr>
            <a:xfrm>
              <a:off x="3492360" y="3933720"/>
              <a:ext cx="115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5076720" y="3645000"/>
              <a:ext cx="280836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No incorporan O</a:t>
              </a:r>
              <a:r>
                <a:rPr b="1" lang="es-ES" sz="24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3780000" y="350028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Oxi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3"/>
          <p:cNvGrpSpPr/>
          <p:nvPr/>
        </p:nvGrpSpPr>
        <p:grpSpPr>
          <a:xfrm>
            <a:off x="3348000" y="4653000"/>
            <a:ext cx="2809800" cy="1695960"/>
            <a:chOff x="3348000" y="4653000"/>
            <a:chExt cx="2809800" cy="1695960"/>
          </a:xfrm>
        </p:grpSpPr>
        <p:sp>
          <p:nvSpPr>
            <p:cNvPr id="111" name="Text Box 14"/>
            <p:cNvSpPr/>
            <p:nvPr/>
          </p:nvSpPr>
          <p:spPr>
            <a:xfrm>
              <a:off x="3492360" y="4653000"/>
              <a:ext cx="266544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Calibri"/>
                </a:rPr>
                <a:t>MONO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3419640" y="5950080"/>
              <a:ext cx="223200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Calibri"/>
                </a:rPr>
                <a:t>DIOXIGENAS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 flipV="1">
              <a:off x="3348000" y="515772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3419640" y="5589720"/>
              <a:ext cx="288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8"/>
          <p:cNvGrpSpPr/>
          <p:nvPr/>
        </p:nvGrpSpPr>
        <p:grpSpPr>
          <a:xfrm>
            <a:off x="6156360" y="4437000"/>
            <a:ext cx="2665440" cy="875880"/>
            <a:chOff x="6156360" y="4437000"/>
            <a:chExt cx="2665440" cy="875880"/>
          </a:xfrm>
        </p:grpSpPr>
        <p:sp>
          <p:nvSpPr>
            <p:cNvPr id="116" name="Text Box 19"/>
            <p:cNvSpPr/>
            <p:nvPr/>
          </p:nvSpPr>
          <p:spPr>
            <a:xfrm>
              <a:off x="6516720" y="4437000"/>
              <a:ext cx="230508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Calibri"/>
                </a:rPr>
                <a:t>Incorporan un átomo del O</a:t>
              </a:r>
              <a:r>
                <a:rPr b="1" lang="es-ES" sz="24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>
              <a:off x="6156360" y="486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1"/>
          <p:cNvGrpSpPr/>
          <p:nvPr/>
        </p:nvGrpSpPr>
        <p:grpSpPr>
          <a:xfrm>
            <a:off x="5724360" y="5661000"/>
            <a:ext cx="3097440" cy="875880"/>
            <a:chOff x="5724360" y="5661000"/>
            <a:chExt cx="3097440" cy="875880"/>
          </a:xfrm>
        </p:grpSpPr>
        <p:sp>
          <p:nvSpPr>
            <p:cNvPr id="119" name="Text Box 22"/>
            <p:cNvSpPr/>
            <p:nvPr/>
          </p:nvSpPr>
          <p:spPr>
            <a:xfrm>
              <a:off x="6156360" y="5661000"/>
              <a:ext cx="266544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Incorporan los 2 átomos del O</a:t>
              </a:r>
              <a:r>
                <a:rPr b="1" lang="es-ES" sz="2400" spc="-1" strike="noStrike" baseline="-25000">
                  <a:solidFill>
                    <a:srgbClr val="00206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3"/>
            <p:cNvSpPr/>
            <p:nvPr/>
          </p:nvSpPr>
          <p:spPr>
            <a:xfrm>
              <a:off x="5724360" y="609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21 CuadroTexto"/>
          <p:cNvSpPr/>
          <p:nvPr/>
        </p:nvSpPr>
        <p:spPr>
          <a:xfrm>
            <a:off x="262800" y="3214800"/>
            <a:ext cx="159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Comic Sans MS"/>
              </a:rPr>
              <a:t>Diferenc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5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XIGENASAS:</a:t>
            </a:r>
            <a:br>
              <a:rPr sz="2400"/>
            </a:br>
            <a:r>
              <a:rPr b="1" i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MONOOXIGENASAS </a:t>
            </a:r>
            <a:r>
              <a:rPr b="1" i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(</a:t>
            </a:r>
            <a:r>
              <a:rPr b="1" i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oxigenasas de función mixta</a:t>
            </a:r>
            <a:r>
              <a:rPr b="1" i="1" lang="es-ES" sz="1800" spc="-1" strike="noStrike">
                <a:solidFill>
                  <a:srgbClr val="c00000"/>
                </a:solidFill>
                <a:latin typeface="Arial"/>
                <a:ea typeface="Arial"/>
              </a:rPr>
              <a:t>)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unción: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Hidroxil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965160"/>
          </a:xfrm>
          <a:prstGeom prst="rect">
            <a:avLst/>
          </a:prstGeom>
          <a:solidFill>
            <a:srgbClr val="f5fa2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H  +  A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+  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              S-</a:t>
            </a:r>
            <a:r>
              <a:rPr b="0" lang="es-E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  +  A  + 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786120" y="20718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3967200"/>
            <a:ext cx="763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 átomo de O se incorpora al sustrato y el otro form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856800" y="2349360"/>
            <a:ext cx="25884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95280" y="270828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us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340000" y="2421000"/>
            <a:ext cx="30312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195640" y="2924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-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3357720" y="2928960"/>
            <a:ext cx="3279600" cy="40572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H, NADPH, FMN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, FADH</a:t>
            </a:r>
            <a:r>
              <a:rPr b="1" lang="es-ES" sz="18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0 CuadroTexto"/>
          <p:cNvSpPr/>
          <p:nvPr/>
        </p:nvSpPr>
        <p:spPr>
          <a:xfrm>
            <a:off x="3339000" y="21430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monooxige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2"/>
          <p:cNvGrpSpPr/>
          <p:nvPr/>
        </p:nvGrpSpPr>
        <p:grpSpPr>
          <a:xfrm>
            <a:off x="714240" y="1928880"/>
            <a:ext cx="8264160" cy="2132280"/>
            <a:chOff x="714240" y="1928880"/>
            <a:chExt cx="8264160" cy="2132280"/>
          </a:xfrm>
        </p:grpSpPr>
        <p:sp>
          <p:nvSpPr>
            <p:cNvPr id="133" name="Text Box 13"/>
            <p:cNvSpPr/>
            <p:nvPr/>
          </p:nvSpPr>
          <p:spPr>
            <a:xfrm>
              <a:off x="714240" y="2286000"/>
              <a:ext cx="3348360" cy="862560"/>
            </a:xfrm>
            <a:prstGeom prst="rect">
              <a:avLst/>
            </a:prstGeom>
            <a:solidFill>
              <a:srgbClr val="f5fa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Sistemas 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0000"/>
                  </a:solidFill>
                  <a:latin typeface="Calibri"/>
                </a:rPr>
                <a:t>CITOCROMO P-4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 flipV="1">
              <a:off x="4301280" y="2358720"/>
              <a:ext cx="7167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4380480" y="2862000"/>
              <a:ext cx="79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4380480" y="3151080"/>
              <a:ext cx="71856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>
              <a:off x="5071320" y="3357360"/>
              <a:ext cx="390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2000" spc="-1" strike="noStrike">
                  <a:solidFill>
                    <a:srgbClr val="0000ff"/>
                  </a:solidFill>
                  <a:latin typeface="Calibri"/>
                </a:rPr>
                <a:t> de esteroides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(mitocondrias-cort.adrenal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9"/>
            <p:cNvSpPr/>
            <p:nvPr/>
          </p:nvSpPr>
          <p:spPr>
            <a:xfrm>
              <a:off x="5094000" y="2643120"/>
              <a:ext cx="319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2000" spc="-1" strike="noStrike">
                  <a:solidFill>
                    <a:srgbClr val="0000ff"/>
                  </a:solidFill>
                  <a:latin typeface="Calibri"/>
                </a:rPr>
                <a:t> de fármacos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(RE-hígad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0"/>
            <p:cNvSpPr/>
            <p:nvPr/>
          </p:nvSpPr>
          <p:spPr>
            <a:xfrm>
              <a:off x="5000760" y="1928880"/>
              <a:ext cx="362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Calibri"/>
                </a:rPr>
                <a:t>Hidroxilación</a:t>
              </a:r>
              <a:r>
                <a:rPr b="1" lang="es-ES" sz="2000" spc="-1" strike="noStrike">
                  <a:solidFill>
                    <a:srgbClr val="0000ff"/>
                  </a:solidFill>
                  <a:latin typeface="Calibri"/>
                </a:rPr>
                <a:t> de xenobióticos </a:t>
              </a:r>
              <a:r>
                <a:rPr b="1" lang="es-ES" sz="2000" spc="-1" strike="noStrike">
                  <a:solidFill>
                    <a:srgbClr val="000000"/>
                  </a:solidFill>
                  <a:latin typeface="Calibri"/>
                </a:rPr>
                <a:t>(RE-hígad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21"/>
          <p:cNvSpPr/>
          <p:nvPr/>
        </p:nvSpPr>
        <p:spPr>
          <a:xfrm>
            <a:off x="684360" y="4786200"/>
            <a:ext cx="2592360" cy="822960"/>
          </a:xfrm>
          <a:prstGeom prst="rect">
            <a:avLst/>
          </a:prstGeom>
          <a:solidFill>
            <a:srgbClr val="f5f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istem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CITOCROMO b</a:t>
            </a:r>
            <a:r>
              <a:rPr b="1" lang="es-ES" sz="1800" spc="-1" strike="noStrike" baseline="-25000">
                <a:solidFill>
                  <a:srgbClr val="c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3348000" y="521496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4538520" y="4987800"/>
            <a:ext cx="41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Deshidrogenación (desatur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ES" sz="1800" spc="-1" strike="noStrike">
                <a:solidFill>
                  <a:srgbClr val="0000cc"/>
                </a:solidFill>
                <a:latin typeface="Calibri"/>
              </a:rPr>
              <a:t>de ácidos graso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(RE-híg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42884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AR" sz="3200" spc="-1" strike="noStrike">
                <a:solidFill>
                  <a:srgbClr val="c00000"/>
                </a:solidFill>
                <a:latin typeface="Calibri"/>
              </a:rPr>
              <a:t>Otros Sistemas de Transporte Electrónico </a:t>
            </a:r>
            <a:br>
              <a:rPr sz="2800"/>
            </a:b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- del Retículo Endoplásmico (RE)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(microsomas)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e Mitocondr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1430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istema de Transporte Electrónico del Retículo Endoplásmico</a:t>
            </a:r>
            <a:br>
              <a:rPr sz="2400"/>
            </a:br>
            <a:r>
              <a:rPr b="1" lang="es-AR" sz="2200" spc="-1" strike="noStrike">
                <a:solidFill>
                  <a:srgbClr val="002060"/>
                </a:solidFill>
                <a:latin typeface="Calibri"/>
              </a:rPr>
              <a:t>NADPH- </a:t>
            </a:r>
            <a:r>
              <a:rPr b="1" i="1" lang="es-AR" sz="2200" spc="-1" strike="noStrike">
                <a:solidFill>
                  <a:srgbClr val="002060"/>
                </a:solidFill>
                <a:latin typeface="Calibri"/>
              </a:rPr>
              <a:t>Citocromo P-450 reductasa  </a:t>
            </a:r>
            <a:r>
              <a:rPr b="1" i="1" lang="es-AR" sz="2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s-AR" sz="2200" spc="-1" strike="noStrike">
                <a:solidFill>
                  <a:srgbClr val="c00000"/>
                </a:solidFill>
                <a:latin typeface="Calibri"/>
              </a:rPr>
              <a:t> Citocromo P-450 </a:t>
            </a:r>
            <a:br>
              <a:rPr sz="2200"/>
            </a:b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Función hidroxil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adro de texto 26"/>
          <p:cNvSpPr/>
          <p:nvPr/>
        </p:nvSpPr>
        <p:spPr>
          <a:xfrm>
            <a:off x="1619280" y="306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37"/>
          <p:cNvSpPr/>
          <p:nvPr/>
        </p:nvSpPr>
        <p:spPr>
          <a:xfrm>
            <a:off x="1042920" y="458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38"/>
          <p:cNvSpPr/>
          <p:nvPr/>
        </p:nvSpPr>
        <p:spPr>
          <a:xfrm>
            <a:off x="971640" y="544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b0a"/>
                </a:solidFill>
                <a:latin typeface="Calibri"/>
              </a:rPr>
              <a:t>NADP</a:t>
            </a:r>
            <a:r>
              <a:rPr b="1" lang="es-ES" sz="1800" spc="-1" strike="noStrike" baseline="30000">
                <a:solidFill>
                  <a:srgbClr val="f42b0a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forma 28"/>
          <p:cNvSpPr/>
          <p:nvPr/>
        </p:nvSpPr>
        <p:spPr>
          <a:xfrm>
            <a:off x="3490920" y="1835280"/>
            <a:ext cx="834840" cy="404640"/>
          </a:xfrm>
          <a:custGeom>
            <a:avLst/>
            <a:gdLst>
              <a:gd name="textAreaLeft" fmla="*/ 140040 w 834840"/>
              <a:gd name="textAreaRight" fmla="*/ 566280 w 83484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-2611300"/>
                <a:lnTo>
                  <a:pt x="21185" y="7200"/>
                </a:lnTo>
                <a:lnTo>
                  <a:pt x="16391" y="0"/>
                </a:lnTo>
                <a:lnTo>
                  <a:pt x="10767" y="7200"/>
                </a:lnTo>
                <a:lnTo>
                  <a:pt x="14090" y="7200"/>
                </a:lnTo>
                <a:arcTo wR="7253" hR="21600" stAng="2788700" swAng="2301282"/>
                <a:lnTo>
                  <a:pt x="9139" y="20857"/>
                </a:lnTo>
                <a:arcTo wR="7253" hR="21600" stAng="5710018" swAng="5089982"/>
                <a:close/>
              </a:path>
              <a:path fill="darkenLess" w="21600" h="21600">
                <a:moveTo>
                  <a:pt x="0" y="0"/>
                </a:moveTo>
                <a:arcTo wR="7253" hR="21600" stAng="10800000" swAng="-5400000"/>
                <a:lnTo>
                  <a:pt x="11025" y="21600"/>
                </a:lnTo>
                <a:arcTo wR="7253" hR="21600" stAng="5400000" swAng="310018"/>
                <a:lnTo>
                  <a:pt x="9139" y="20857"/>
                </a:lnTo>
                <a:arcTo wR="7253" hR="21600" stAng="5710018" swAng="508998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ínea 29"/>
          <p:cNvSpPr/>
          <p:nvPr/>
        </p:nvSpPr>
        <p:spPr>
          <a:xfrm>
            <a:off x="3132000" y="231156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forma 30"/>
          <p:cNvSpPr/>
          <p:nvPr/>
        </p:nvSpPr>
        <p:spPr>
          <a:xfrm>
            <a:off x="3419640" y="2311560"/>
            <a:ext cx="939600" cy="507960"/>
          </a:xfrm>
          <a:custGeom>
            <a:avLst/>
            <a:gdLst>
              <a:gd name="textAreaLeft" fmla="*/ 171000 w 939600"/>
              <a:gd name="textAreaRight" fmla="*/ 648720 w 93960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0" hR="21600" stAng="10800000" swAng="5400000"/>
                <a:lnTo>
                  <a:pt x="10980" y="0"/>
                </a:lnTo>
                <a:arcTo wR="7860" hR="21600" stAng="-5400000" swAng="2749521"/>
                <a:lnTo>
                  <a:pt x="21150" y="14400"/>
                </a:lnTo>
                <a:lnTo>
                  <a:pt x="17280" y="21600"/>
                </a:lnTo>
                <a:lnTo>
                  <a:pt x="12510" y="14400"/>
                </a:lnTo>
                <a:lnTo>
                  <a:pt x="15270" y="14400"/>
                </a:lnTo>
                <a:arcTo wR="7860" hR="21600" stAng="-2650479" swAng="-2496657"/>
                <a:lnTo>
                  <a:pt x="9420" y="430"/>
                </a:lnTo>
                <a:arcTo wR="7860" hR="21600" stAng="-5652864" swAng="-5147136"/>
                <a:close/>
              </a:path>
              <a:path fill="darkenLess" w="21600" h="21600">
                <a:moveTo>
                  <a:pt x="0" y="21600"/>
                </a:moveTo>
                <a:arcTo wR="7860" hR="21600" stAng="10800000" swAng="5400000"/>
                <a:lnTo>
                  <a:pt x="7860" y="0"/>
                </a:lnTo>
                <a:arcTo wR="7860" hR="21600" stAng="-5400000" swAng="252864"/>
                <a:lnTo>
                  <a:pt x="9420" y="430"/>
                </a:lnTo>
                <a:arcTo wR="7860" hR="21600" stAng="-5652864" swAng="-5147136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uadro de texto 31"/>
          <p:cNvSpPr/>
          <p:nvPr/>
        </p:nvSpPr>
        <p:spPr>
          <a:xfrm>
            <a:off x="4211640" y="274464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(ox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adro de texto 32"/>
          <p:cNvSpPr/>
          <p:nvPr/>
        </p:nvSpPr>
        <p:spPr>
          <a:xfrm>
            <a:off x="1558800" y="2762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c540a"/>
                </a:solidFill>
                <a:latin typeface="Calibri"/>
              </a:rPr>
              <a:t>CitP-450 </a:t>
            </a: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(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adro de texto 33"/>
          <p:cNvSpPr/>
          <p:nvPr/>
        </p:nvSpPr>
        <p:spPr>
          <a:xfrm>
            <a:off x="1259280" y="2023920"/>
            <a:ext cx="13816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adro de texto 34"/>
          <p:cNvSpPr/>
          <p:nvPr/>
        </p:nvSpPr>
        <p:spPr>
          <a:xfrm>
            <a:off x="5054400" y="2095560"/>
            <a:ext cx="27547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strato hidroxi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 de texto 35"/>
          <p:cNvSpPr/>
          <p:nvPr/>
        </p:nvSpPr>
        <p:spPr>
          <a:xfrm>
            <a:off x="2843280" y="1484280"/>
            <a:ext cx="627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adro de texto 36"/>
          <p:cNvSpPr/>
          <p:nvPr/>
        </p:nvSpPr>
        <p:spPr>
          <a:xfrm>
            <a:off x="4200480" y="148428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H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r>
              <a:rPr b="1" lang="es-ES" sz="24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400" spc="-1" strike="noStrike" baseline="-25000">
                <a:solidFill>
                  <a:srgbClr val="f42b0a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e 43"/>
          <p:cNvSpPr/>
          <p:nvPr/>
        </p:nvSpPr>
        <p:spPr>
          <a:xfrm>
            <a:off x="2771640" y="4724280"/>
            <a:ext cx="1944720" cy="15130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NADPH-Citocr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P-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Reduct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F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ipse 45"/>
          <p:cNvSpPr/>
          <p:nvPr/>
        </p:nvSpPr>
        <p:spPr>
          <a:xfrm>
            <a:off x="4859280" y="4791240"/>
            <a:ext cx="1944720" cy="1512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Citocromo P-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He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adro de texto 46"/>
          <p:cNvSpPr/>
          <p:nvPr/>
        </p:nvSpPr>
        <p:spPr>
          <a:xfrm>
            <a:off x="723600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 de texto 47"/>
          <p:cNvSpPr/>
          <p:nvPr/>
        </p:nvSpPr>
        <p:spPr>
          <a:xfrm>
            <a:off x="7308720" y="61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 de texto 48"/>
          <p:cNvSpPr/>
          <p:nvPr/>
        </p:nvSpPr>
        <p:spPr>
          <a:xfrm>
            <a:off x="7162920" y="5157720"/>
            <a:ext cx="71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r>
              <a:rPr b="1" lang="es-ES" sz="2000" spc="-1" strike="noStrike" baseline="-25000">
                <a:solidFill>
                  <a:srgbClr val="f42b0a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 de texto 49"/>
          <p:cNvSpPr/>
          <p:nvPr/>
        </p:nvSpPr>
        <p:spPr>
          <a:xfrm>
            <a:off x="7236000" y="559116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H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ES" sz="2000" spc="-1" strike="noStrike">
                <a:solidFill>
                  <a:srgbClr val="f42b0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adro de texto 39"/>
          <p:cNvSpPr/>
          <p:nvPr/>
        </p:nvSpPr>
        <p:spPr>
          <a:xfrm>
            <a:off x="3132000" y="465300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FMN-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adro de texto 40"/>
          <p:cNvSpPr/>
          <p:nvPr/>
        </p:nvSpPr>
        <p:spPr>
          <a:xfrm>
            <a:off x="3059280" y="609300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FMN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 de texto 41"/>
          <p:cNvSpPr/>
          <p:nvPr/>
        </p:nvSpPr>
        <p:spPr>
          <a:xfrm>
            <a:off x="5148360" y="4575240"/>
            <a:ext cx="143964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alibri"/>
              </a:rPr>
              <a:t>Redu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uadro de texto 42"/>
          <p:cNvSpPr/>
          <p:nvPr/>
        </p:nvSpPr>
        <p:spPr>
          <a:xfrm>
            <a:off x="5219640" y="6230880"/>
            <a:ext cx="1224000" cy="368280"/>
          </a:xfrm>
          <a:prstGeom prst="rect">
            <a:avLst/>
          </a:prstGeom>
          <a:solidFill>
            <a:srgbClr val="fb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Ox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forma 63"/>
          <p:cNvSpPr/>
          <p:nvPr/>
        </p:nvSpPr>
        <p:spPr>
          <a:xfrm>
            <a:off x="2195640" y="4869000"/>
            <a:ext cx="503280" cy="115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forma 64"/>
          <p:cNvSpPr/>
          <p:nvPr/>
        </p:nvSpPr>
        <p:spPr>
          <a:xfrm>
            <a:off x="2700360" y="4797360"/>
            <a:ext cx="431640" cy="1584360"/>
          </a:xfrm>
          <a:custGeom>
            <a:avLst/>
            <a:gdLst>
              <a:gd name="textAreaLeft" fmla="*/ 57600 w 431640"/>
              <a:gd name="textAreaRight" fmla="*/ 374040 w 431640"/>
              <a:gd name="textAreaTop" fmla="*/ 311760 h 1584360"/>
              <a:gd name="textAreaBottom" fmla="*/ 111384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8" stAng="-5400000" swAng="-5400000"/>
                <a:lnTo>
                  <a:pt x="0" y="10932"/>
                </a:lnTo>
                <a:arcTo wR="21600" hR="8508" stAng="10800000" swAng="-2885337"/>
                <a:lnTo>
                  <a:pt x="14400" y="21113"/>
                </a:lnTo>
                <a:lnTo>
                  <a:pt x="21600" y="18228"/>
                </a:lnTo>
                <a:lnTo>
                  <a:pt x="14400" y="14369"/>
                </a:lnTo>
                <a:lnTo>
                  <a:pt x="14400" y="16529"/>
                </a:lnTo>
                <a:arcTo wR="21600" hR="8508" stAng="7914663" swAng="2690662"/>
                <a:lnTo>
                  <a:pt x="220" y="9720"/>
                </a:lnTo>
                <a:arcTo wR="21600" hR="8508" stAng="-10605325" swAng="5205325"/>
                <a:close/>
              </a:path>
              <a:path fill="darkenLess" w="21600" h="21600">
                <a:moveTo>
                  <a:pt x="21600" y="0"/>
                </a:moveTo>
                <a:arcTo wR="21600" hR="8508" stAng="-5400000" swAng="-5400000"/>
                <a:lnTo>
                  <a:pt x="0" y="8508"/>
                </a:lnTo>
                <a:arcTo wR="21600" hR="8508" stAng="10800000" swAng="-194675"/>
                <a:lnTo>
                  <a:pt x="220" y="9720"/>
                </a:lnTo>
                <a:arcTo wR="21600" hR="8508" stAng="-10605325" swAng="520532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o 67"/>
          <p:cNvGrpSpPr/>
          <p:nvPr/>
        </p:nvGrpSpPr>
        <p:grpSpPr>
          <a:xfrm>
            <a:off x="4356000" y="4581360"/>
            <a:ext cx="792360" cy="1656000"/>
            <a:chOff x="4356000" y="4581360"/>
            <a:chExt cx="792360" cy="1656000"/>
          </a:xfrm>
        </p:grpSpPr>
        <p:sp>
          <p:nvSpPr>
            <p:cNvPr id="170" name="Autoforma 65"/>
            <p:cNvSpPr/>
            <p:nvPr/>
          </p:nvSpPr>
          <p:spPr>
            <a:xfrm rot="16200000">
              <a:off x="3744720" y="5192640"/>
              <a:ext cx="1656000" cy="433440"/>
            </a:xfrm>
            <a:custGeom>
              <a:avLst/>
              <a:gdLst>
                <a:gd name="textAreaLeft" fmla="*/ 321840 w 1656000"/>
                <a:gd name="textAreaRight" fmla="*/ 1168560 w 1656000"/>
                <a:gd name="textAreaTop" fmla="*/ 57960 h 433440"/>
                <a:gd name="textAreaBottom" fmla="*/ 37548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-2006064"/>
                  <a:lnTo>
                    <a:pt x="20439" y="10958"/>
                  </a:lnTo>
                  <a:lnTo>
                    <a:pt x="18116" y="0"/>
                  </a:lnTo>
                  <a:lnTo>
                    <a:pt x="13470" y="10958"/>
                  </a:lnTo>
                  <a:lnTo>
                    <a:pt x="15630" y="10958"/>
                  </a:lnTo>
                  <a:arcTo wR="8396" hR="21600" stAng="3393936" swAng="1792864"/>
                  <a:lnTo>
                    <a:pt x="9720" y="21330"/>
                  </a:lnTo>
                  <a:arcTo wR="8396" hR="21600" stAng="5613200" swAng="5186800"/>
                  <a:close/>
                </a:path>
                <a:path fill="darkenLess" w="21600" h="21600">
                  <a:moveTo>
                    <a:pt x="0" y="0"/>
                  </a:moveTo>
                  <a:arcTo wR="8396" hR="21600" stAng="10800000" swAng="-5400000"/>
                  <a:lnTo>
                    <a:pt x="11045" y="21600"/>
                  </a:lnTo>
                  <a:arcTo wR="8396" hR="21600" stAng="5400000" swAng="213200"/>
                  <a:lnTo>
                    <a:pt x="9720" y="21330"/>
                  </a:lnTo>
                  <a:arcTo wR="8396" hR="21600" stAng="5613200" swAng="5186800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forma 66"/>
            <p:cNvSpPr/>
            <p:nvPr/>
          </p:nvSpPr>
          <p:spPr>
            <a:xfrm rot="16200000">
              <a:off x="4176000" y="5264640"/>
              <a:ext cx="1584360" cy="360360"/>
            </a:xfrm>
            <a:custGeom>
              <a:avLst/>
              <a:gdLst>
                <a:gd name="textAreaLeft" fmla="*/ 306360 w 1584360"/>
                <a:gd name="textAreaRight" fmla="*/ 1096920 w 158436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55" hR="21600" stAng="10800000" swAng="5400000"/>
                  <a:lnTo>
                    <a:pt x="10778" y="0"/>
                  </a:lnTo>
                  <a:arcTo wR="8355" hR="21600" stAng="-5400000" swAng="2854195"/>
                  <a:lnTo>
                    <a:pt x="21122" y="14400"/>
                  </a:lnTo>
                  <a:lnTo>
                    <a:pt x="17921" y="21600"/>
                  </a:lnTo>
                  <a:lnTo>
                    <a:pt x="13763" y="14400"/>
                  </a:lnTo>
                  <a:lnTo>
                    <a:pt x="16231" y="14400"/>
                  </a:lnTo>
                  <a:arcTo wR="8355" hR="21600" stAng="-2545805" swAng="-2659528"/>
                  <a:lnTo>
                    <a:pt x="9566" y="228"/>
                  </a:lnTo>
                  <a:arcTo wR="8355" hR="21600" stAng="-5594668" swAng="-5205332"/>
                  <a:close/>
                </a:path>
                <a:path fill="darkenLess" w="21600" h="21600">
                  <a:moveTo>
                    <a:pt x="0" y="21600"/>
                  </a:moveTo>
                  <a:arcTo wR="8355" hR="21600" stAng="10800000" swAng="5400000"/>
                  <a:lnTo>
                    <a:pt x="8355" y="0"/>
                  </a:lnTo>
                  <a:arcTo wR="8355" hR="21600" stAng="-5400000" swAng="194668"/>
                  <a:lnTo>
                    <a:pt x="9566" y="228"/>
                  </a:lnTo>
                  <a:arcTo wR="8355" hR="21600" stAng="-5594668" swAng="-5205332"/>
                  <a:close/>
                </a:path>
              </a:pathLst>
            </a:custGeom>
            <a:solidFill>
              <a:srgbClr val="5c54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Autoforma 69"/>
          <p:cNvSpPr/>
          <p:nvPr/>
        </p:nvSpPr>
        <p:spPr>
          <a:xfrm rot="5135400">
            <a:off x="6192360" y="5408640"/>
            <a:ext cx="1656000" cy="433440"/>
          </a:xfrm>
          <a:custGeom>
            <a:avLst/>
            <a:gdLst>
              <a:gd name="textAreaLeft" fmla="*/ 321840 w 1656000"/>
              <a:gd name="textAreaRight" fmla="*/ 1168560 w 1656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-2006064"/>
                <a:lnTo>
                  <a:pt x="20439" y="10958"/>
                </a:lnTo>
                <a:lnTo>
                  <a:pt x="18116" y="0"/>
                </a:lnTo>
                <a:lnTo>
                  <a:pt x="13470" y="10958"/>
                </a:lnTo>
                <a:lnTo>
                  <a:pt x="15630" y="10958"/>
                </a:lnTo>
                <a:arcTo wR="8396" hR="21600" stAng="3393936" swAng="1792864"/>
                <a:lnTo>
                  <a:pt x="9720" y="21330"/>
                </a:lnTo>
                <a:arcTo wR="8396" hR="21600" stAng="5613200" swAng="5186800"/>
                <a:close/>
              </a:path>
              <a:path fill="darkenLess" w="21600" h="21600">
                <a:moveTo>
                  <a:pt x="0" y="0"/>
                </a:moveTo>
                <a:arcTo wR="8396" hR="21600" stAng="10800000" swAng="-5400000"/>
                <a:lnTo>
                  <a:pt x="11045" y="21600"/>
                </a:lnTo>
                <a:arcTo wR="8396" hR="21600" stAng="5400000" swAng="213200"/>
                <a:lnTo>
                  <a:pt x="9720" y="21330"/>
                </a:lnTo>
                <a:arcTo wR="8396" hR="21600" stAng="5613200" swAng="5186800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forma 70"/>
          <p:cNvSpPr/>
          <p:nvPr/>
        </p:nvSpPr>
        <p:spPr>
          <a:xfrm rot="5271600">
            <a:off x="5830920" y="5409360"/>
            <a:ext cx="1584360" cy="360360"/>
          </a:xfrm>
          <a:custGeom>
            <a:avLst/>
            <a:gdLst>
              <a:gd name="textAreaLeft" fmla="*/ 306360 w 1584360"/>
              <a:gd name="textAreaRight" fmla="*/ 109692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55" hR="21600" stAng="10800000" swAng="5400000"/>
                <a:lnTo>
                  <a:pt x="10778" y="0"/>
                </a:lnTo>
                <a:arcTo wR="8355" hR="21600" stAng="-5400000" swAng="2854195"/>
                <a:lnTo>
                  <a:pt x="21122" y="14400"/>
                </a:lnTo>
                <a:lnTo>
                  <a:pt x="17921" y="21600"/>
                </a:lnTo>
                <a:lnTo>
                  <a:pt x="13763" y="14400"/>
                </a:lnTo>
                <a:lnTo>
                  <a:pt x="16231" y="14400"/>
                </a:lnTo>
                <a:arcTo wR="8355" hR="21600" stAng="-2545805" swAng="-2659528"/>
                <a:lnTo>
                  <a:pt x="9566" y="228"/>
                </a:lnTo>
                <a:arcTo wR="8355" hR="21600" stAng="-5594668" swAng="-5205332"/>
                <a:close/>
              </a:path>
              <a:path fill="darkenLess" w="21600" h="21600">
                <a:moveTo>
                  <a:pt x="0" y="21600"/>
                </a:moveTo>
                <a:arcTo wR="8355" hR="21600" stAng="10800000" swAng="5400000"/>
                <a:lnTo>
                  <a:pt x="8355" y="0"/>
                </a:lnTo>
                <a:arcTo wR="8355" hR="21600" stAng="-5400000" swAng="194668"/>
                <a:lnTo>
                  <a:pt x="9566" y="228"/>
                </a:lnTo>
                <a:arcTo wR="8355" hR="21600" stAng="-5594668" swAng="-5205332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forma 71"/>
          <p:cNvSpPr/>
          <p:nvPr/>
        </p:nvSpPr>
        <p:spPr>
          <a:xfrm>
            <a:off x="6804000" y="5300640"/>
            <a:ext cx="432000" cy="4334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c54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CuadroTexto"/>
          <p:cNvSpPr/>
          <p:nvPr/>
        </p:nvSpPr>
        <p:spPr>
          <a:xfrm>
            <a:off x="192240" y="3252960"/>
            <a:ext cx="87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hidroxilación de sustancias extrañas, aumenta su polaridad y solubilidad en agua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facilita su eli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nula su toxicidad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aumenta su metabolismo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son excretadas con la o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Mecanismos de desintoxicación (hígado)</a:t>
            </a:r>
            <a:r>
              <a:rPr b="1" lang="es-MX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1 Rectángulo"/>
          <p:cNvSpPr/>
          <p:nvPr/>
        </p:nvSpPr>
        <p:spPr>
          <a:xfrm>
            <a:off x="826920" y="1989000"/>
            <a:ext cx="649440" cy="56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28760" y="0"/>
            <a:ext cx="5257800" cy="4608360"/>
          </a:xfrm>
          <a:prstGeom prst="rect">
            <a:avLst/>
          </a:prstGeom>
          <a:ln w="0">
            <a:noFill/>
          </a:ln>
        </p:spPr>
      </p:pic>
      <p:sp>
        <p:nvSpPr>
          <p:cNvPr id="178" name="5 CuadroTexto"/>
          <p:cNvSpPr/>
          <p:nvPr/>
        </p:nvSpPr>
        <p:spPr>
          <a:xfrm>
            <a:off x="694836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CuadroTexto"/>
          <p:cNvSpPr/>
          <p:nvPr/>
        </p:nvSpPr>
        <p:spPr>
          <a:xfrm>
            <a:off x="1857240" y="442908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os sistemas de </a:t>
            </a:r>
            <a:r>
              <a:rPr b="1" lang="es-MX" sz="2000" spc="-1" strike="noStrike">
                <a:solidFill>
                  <a:srgbClr val="c00000"/>
                </a:solidFill>
                <a:latin typeface="Comic Sans MS"/>
              </a:rPr>
              <a:t>Cit P- 450 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participan en reacciones de oxigenación-hidroxilación, desulfuración, desaminación </a:t>
            </a:r>
            <a:r>
              <a:rPr b="1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5968"/>
                </a:solidFill>
                <a:latin typeface="Comic Sans MS"/>
              </a:rPr>
              <a:t>activas en el hí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Son enzimas induc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Inductores: </a:t>
            </a:r>
            <a:r>
              <a:rPr b="1" lang="es-MX" sz="2000" spc="-1" strike="noStrike">
                <a:solidFill>
                  <a:srgbClr val="c00000"/>
                </a:solidFill>
                <a:latin typeface="Comic Sans MS"/>
              </a:rPr>
              <a:t>XENOBIÓ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1 CuadroTexto"/>
          <p:cNvSpPr/>
          <p:nvPr/>
        </p:nvSpPr>
        <p:spPr>
          <a:xfrm>
            <a:off x="395280" y="0"/>
            <a:ext cx="835344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METABOLISMO de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Inductores: </a:t>
            </a:r>
            <a:r>
              <a:rPr b="1" lang="es-MX" sz="2400" spc="-1" strike="noStrike">
                <a:solidFill>
                  <a:srgbClr val="c00000"/>
                </a:solidFill>
                <a:latin typeface="Calibri"/>
                <a:ea typeface="Calibri"/>
              </a:rPr>
              <a:t>XENOBIÓTICOS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Calibri"/>
              </a:rPr>
              <a:t>(del griego, xenos, extraño)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Calibri"/>
              </a:rPr>
              <a:t>son compuestos ajenos al organismo, muchas veces noc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  <a:ea typeface="Calibri"/>
              </a:rPr>
              <a:t>Ejemplos: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fármacos, conservantes/aditivos de alimentos, carbón del asado, humo del tabac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El Sistema del</a:t>
            </a:r>
            <a:r>
              <a:rPr b="1" lang="es-MX" sz="2400" spc="-1" strike="noStrike">
                <a:solidFill>
                  <a:srgbClr val="c00000"/>
                </a:solidFill>
                <a:latin typeface="Calibri"/>
                <a:ea typeface="Calibri"/>
              </a:rPr>
              <a:t> Cit P-450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es</a:t>
            </a:r>
            <a:r>
              <a:rPr b="1" lang="es-MX" sz="24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inducible y se activa en presencia de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IMPORTANCIA EN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EL HÍGADO ES EL PRINCIPAL ÓRGANO DONDE SE LLEVA A CABO LA METABOLIZACIÓN (DESTOXIFICACIÓN ó DESINTOXICACIÓN) DE LOS XENOBIÓ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Su estudio per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Calibri"/>
              </a:rPr>
              <a:t>-la comprensión racional de la farmacología/toxicología            -líneas de investigación sobre cá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22:03:54Z</dcterms:created>
  <dc:creator>ali y facu</dc:creator>
  <dc:description/>
  <dc:language>en-US</dc:language>
  <cp:lastModifiedBy>ali y facu</cp:lastModifiedBy>
  <dcterms:modified xsi:type="dcterms:W3CDTF">2018-03-31T04:41:56Z</dcterms:modified>
  <cp:revision>40</cp:revision>
  <dc:subject/>
  <dc:title>QUÍMICA BIOLÓGICA</dc:title>
</cp:coreProperties>
</file>